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F819-A16A-4841-A654-E2BDD5F5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4A1C-C793-4B51-A9CC-C74F4C5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115D-7DD5-4F09-B14C-09EBBAA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7D47-FFCB-4F2A-9253-22A6EE13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356B-86BE-4DF3-9095-2CD9FE33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C22-BE25-4F06-A98C-5630DBD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9FD-C6DD-4099-95AA-F8F9C08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86F-A199-40D0-ACA9-4A2EC15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10CD-FCD0-4EA5-B6A3-B7E5A1C9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2834-B5F9-459D-819A-97000D7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AC2-5E64-47EC-9A01-BB25777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CF97-761B-4FD0-A0E6-F1D400C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9BC9-1D5E-472B-A0F2-8869FA1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2FF2-D4EA-4459-BD6F-946C6E2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278C-D5E7-42E2-B01B-9D983EB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5FA0-B452-4F0A-BD9F-7DF4442D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8B6-A92A-402A-9854-DF77F021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2741-D7FD-44EA-905D-B7BE48A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E21E-0A32-4536-B7F8-C22490F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4772-6010-4250-94DD-D2C8E35F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F3C-2D09-451D-9C23-EE720EB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DCFA-34B3-4AB4-A849-81C0BED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795A-E653-4D55-835D-993521B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19AB-4931-44CC-A487-4DDFA7E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10A9-1138-43D3-9AC1-8757D8566C0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923-AA83-42AB-B7C9-7C40E109D9F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776880"/>
            <a:ext cx="972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18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08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Желал бих да отида у дома с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 моя верен, мил Бащ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леч от тоз свят, пълен със нещастия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леч от мрака на нощт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злязох аз със хиляди желания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тивам към дома с твърди решения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Една надежда храня във сърце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стигна скоро у дом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да съм дом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при моя мил Баща! Искам да ида дома при Отца си, да съм дома, да с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654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! Насън видях родина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блажена, славна, по-добр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Мой дял е та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- в земята вечно светл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ук не бих могъл устоя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ом пролет дойде, лястовици бяга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към родина над хълмове, долини; там дни чудесни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лънчеви ги чака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скам да ида у дом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да съм дом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при моя мил Баща! Искам да ида дома при Отца си, да съм дома, да с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81080" y="1285920"/>
            <a:ext cx="950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! Корабът търси пристан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оточето - свойто мор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етето в майчини обятия ляг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мен дома е най-добр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есни съм пял във радост и във скърби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о те заглъхнаха кат ехо слабо; сърцето ми сал' за едно копнее: искам да ида у дома!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да съм дом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дома, при моя мил Баща! Искам да ида дома при Отца си, да съм дома, да съм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2-11T16:56:03Z</dcterms:modified>
  <cp:revision>49</cp:revision>
  <dc:subject/>
  <dc:title>Slide 1</dc:title>
</cp:coreProperties>
</file>